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6C04FB56-6FED-405F-8E23-D29CEC69BA2D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0FFA276B-D6B4-49C0-8EDC-D2E13E28376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Module: Teaching PSP1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udent Presentations - Evaluation Criteri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8763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good rapport with participants (e.g., faces class, maintains eye contact, call participants by names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understanding of PSP material; has an acceptable working knowledge of PSP content and applic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acilitates exercises as instructed; provides appropriate guidance for participants; debriefs exercises appropriate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courages participant involvement/intera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tains control of course delivery; pays attention to binning inappropriate topic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onds appropriately and accurately to participant questions; re-frames as necess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materials at a level and rate that enables both participant learning and timely course comple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participant understanding and lear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and maintains participant inter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1 the 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istical techniques for improving estimat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odule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objectives of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recommended approach to teaching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participate and learn from teaching demonstrations of selected PSP1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1 learning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pics covered in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damental Planning Conce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 and Tracking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and Tracking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Methods A &amp; B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PROBE I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1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 orderly and repeatable procedure for estimating software size and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e and practice methods for making and tracking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Objectives for PSP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and statistical techniqu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cite the interim report as a key learning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7720" y="882360"/>
            <a:ext cx="78278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10 Day / 8 Program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3 –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PROBE I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1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near regression/correlation program assignment (program 3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4 – PSP1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PROBE II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1.1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ive size table program assignment (Program 4)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 and tracking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im repor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checklis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8000" y="882360"/>
            <a:ext cx="80265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6467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2 – Fundament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undamental Planning Concepts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nting/Coding standard report assign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1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er program assignment (program 2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4 - Fundament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hedule planning and tracking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2 – Advanc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vanced planning lect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BE method A &amp; B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1.1 is not covered as a separate process level, no tutorial or program for PSP1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no interim analysis re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3Z</dcterms:modified>
  <cp:revision>207</cp:revision>
  <dc:subject/>
  <dc:title>No Slide Title</dc:title>
</cp:coreProperties>
</file>